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F61-3954-4471-A6A3-BC8A94BF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B5A-3AF2-4A74-9C17-E0628745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AC6-60A1-4D55-B2FA-707D8A49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F1B-EAD8-462D-A861-B27B73B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17D-CDB1-43F5-AE8F-449046AA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049-5A6A-4923-8D48-DE9CF63A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382-F390-4829-99B7-2129725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A6C-5CA7-453D-9043-18020584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D9B-AF04-4DB4-B2D8-13E36E0D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F76-D1F0-43C7-93BB-598E5BB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F54-8993-4947-9390-66CF963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D07-1884-42B0-BDE7-BA7A66B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F55D-7C2D-4414-8A0B-F19905FB8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culty.clintoncc.suny.edu/faculty/Michael.Gregory/files/Bio%20101/Bio%20101%20Lectures/cells/onion_epidermal_cell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icro.magnet.fsu.edu/cells/animals/animalmodel.htm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cademics.hamilton.edu/biology/kbart/image/nucleus.jpg&amp;imgrefurl=http://academics.hamilton.edu/biology/kbart/EMImages.html&amp;h=900&amp;w=766&amp;sz=589&amp;tbnid=_CHPF9ga5T0J:&amp;tbnh=145&amp;tbnw=123&amp;hl=en&amp;start=4&amp;prev=/images%3Fq%3Dnucleus%26svnum%3D10%26hl%3Den%26lr%3D%26ie%3DUTF-8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library.thinkquest.org/C004535/media/ribosomes.gif&amp;imgrefurl=http://library.thinkquest.org/C004535/ribosomes.html&amp;h=210&amp;w=260&amp;sz=45&amp;tbnid=kl7Rl-CNAaQJ:&amp;tbnh=86&amp;tbnw=107&amp;hl=en&amp;start=1&amp;prev=/images%3Fq%3Dribosomes%26svnum%3D10%26hl%3Den%26lr%3D%26ie%3DUTF-8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3243g.com/a3243g_images/mitochondria.gif&amp;imgrefurl=http://www.a3243g.com/image_mitochondria.asp&amp;h=336&amp;w=376&amp;sz=97&amp;tbnid=62TPme1OTREJ:&amp;tbnh=105&amp;tbnw=118&amp;hl=en&amp;start=30&amp;prev=/images%3Fq%3Dmitochondria%26start%3D20%26svnum%3D10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trc.ucdavis.edu/mjguinan/apc100/modules/TermsCells&amp;Tissues/structures/images/ER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biology.unm.edu/ccouncil/Biology_124/Images/golgiapparatusmicroscope.jpeg&amp;imgrefurl=http://biology.unm.edu/ccouncil/Biology_124/Summaries/Cell.html&amp;h=490&amp;w=600&amp;sz=196&amp;tbnid=QN23e1U1RvwJ:&amp;tbnh=108&amp;tbnw=133&amp;hl=en&amp;start=75&amp;prev=/images%3Fq%3Dgolgi%2Bapparatus%26start%3D60%26svnum%3D1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culty.une.edu/com/abell/histo/golgilys.jpg&amp;imgrefurl=http://faculty.une.edu/com/abell/histo/histolab2.htm&amp;h=336&amp;w=432&amp;sz=28&amp;tbnid=QiNICv8kRrMJ:&amp;tbnh=95&amp;tbnw=123&amp;hl=en&amp;start=38&amp;prev=/images%3Fq%3Dlysosomes%26start%3D20%26svnum%3D10%26hl%3Den%26lr%3D%26ie%3DUTF-8%26sa%3D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-sci.pac.dfo-mpo.gc.ca/geoduck/images/cpx2.jpg&amp;imgrefurl=http://www-sci.pac.dfo-mpo.gc.ca/geoduck/images/cpx2_e.htm&amp;h=438&amp;w=657&amp;sz=46&amp;tbnid=FrVFPnE478MJ:&amp;tbnh=90&amp;tbnw=136&amp;hl=en&amp;start=78&amp;prev=/images%3Fq%3Dvacuoles%26start%3D60%26svnum%3D10%26hl%3Den%26lr%3D%26ie%3DUTF-8%26sa%3DN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chnovelgy.com/graphics/content/nervecell.jpg&amp;imgrefurl=http://www.technovelgy.com/ct/Science-Fiction-News.asp%3FNewsNum%3D45&amp;h=317&amp;w=400&amp;sz=21&amp;tbnid=tvEtozBrndUJ:&amp;tbnh=95&amp;tbnw=120&amp;hl=en&amp;start=15&amp;prev=/images%3Fq%3Dnerve%2Bcells%26svnum%3D10%26hl%3Den%26lr%3D%26ie%3DUTF-8%26sa%3D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hyperlink" Target="http://images.google.com/imgres?imgurl=http://www.syberg.be/zmentaleruimte/rsys/fotos/fJ3/zaadcellen.jpg&amp;imgrefurl=http://www.syberg.be/zMentalSpace/sSys/dreamsJ/01seriesJ/J3e.htm&amp;h=215&amp;w=214&amp;sz=8&amp;tbnid=5RK_8mZQmwgJ:&amp;tbnh=101&amp;tbnw=100&amp;hl=en&amp;start=14&amp;prev=/images%3Fq%3Dsperm%2Bcell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unlv.edu/Colleges/Sciences/Biology/Schulte/Anatomy/CellsTissues/LiliumPhloem.jpg&amp;imgrefurl=http://www.unlv.edu/Colleges/Sciences/Biology/Schulte/Anatomy/CellsTissues/Cells.html&amp;h=768&amp;w=960&amp;sz=191&amp;tbnid=6EbVxyo50m8J:&amp;tbnh=117&amp;tbnw=147&amp;hl=en&amp;start=8&amp;prev=/images%3Fq%3Dphloem%2Bcells%26svnum%3D10%26hl%3Den%26lr%3D%26ie%3DUTF-8%26sa%3D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m/imgres?imgurl=http://www.biology.iastate.edu/Courses/202L/New%2520Site%2520S05/images%25202005/cells%26tissues/01Cells/potato%2520plastids.jpeg&amp;imgrefurl=http://www.biology.iastate.edu/Courses/202L/New%2520Site%2520S05/24cells%2520index.html&amp;h=223&amp;w=288&amp;sz=33&amp;tbnid=Bw4-m0p_sUQJ:&amp;tbnh=85&amp;tbnw=110&amp;hl=en&amp;start=18&amp;prev=/images%3Fq%3Dpotato%2Bcells%26svnum%3D10%26hl%3Den%26lr%3D%26ie%3DUTF-8%26sa%3D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google.com/imgres?imgurl=http://www.vcbio.science.ru.nl/public/Final-Images/PL_Final512z_201-250/PL0247_512zElodeaLeafLivingLargeCells10x.jpg&amp;imgrefurl=http://www.vcbio.science.ru.nl/eng/image-gallery/show/PL0247/&amp;h=382&amp;w=512&amp;sz=25&amp;tbnid=3IiBY3J-m1AJ:&amp;tbnh=95&amp;tbnw=128&amp;hl=en&amp;start=17&amp;prev=/images%3Fq%3DElodea%2Bcells%26svnum%3D10%26hl%3Den%26lr%3D%26ie%3DUTF-8%26sa%3DG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images.google.com/imgres?imgurl=http://www.csiro.au/images/mediaReleases/ccells1.jpg&amp;imgrefurl=http://www.csiro.au/index.asp%3Ftype%3DmediaRelease%26id%3DBloodPressureRisk%26stylesheet%3DmediaRelease&amp;h=235&amp;w=250&amp;sz=34&amp;tbnid=das85wzrZP4J:&amp;tbnh=99&amp;tbnw=106&amp;hl=en&amp;start=2&amp;prev=/images%3Fq%3Dcheek%2Bcells%26svnum%3D10%26hl%3Den%26lr%3D%26ie%3DUTF-8%26sa%3DG" TargetMode="External"/><Relationship Id="rId14" Type="http://schemas.openxmlformats.org/officeDocument/2006/relationships/image" Target="../media/image25.jpeg"/><Relationship Id="rId1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9662/images/people/leeuwenhoek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iografiasyvidas.com/biografia/h/fotos/hooke.gif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vlp.mpiwg-berlin.mpg.de/vlpimages/images/img6854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fo01/schleide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z-home.de/~rgzm.neuwied/JPGfiles/virchow.jpg&amp;imgrefurl=http://rz-home.de/~rgzm.neuwied/virchow.htm&amp;h=878&amp;w=651&amp;sz=86&amp;tbnid=esgf7DH8EvMJ:&amp;tbnh=145&amp;tbnw=107&amp;hl=en&amp;start=3&amp;prev=/images%3Fq%3DVirchow%26svnum%3D10%26hl%3Den%26lr%3D%26ie%3DUTF-8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ff.jccc.net/pdecell/cells/cellsize.html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ssilmuseum.net/Paleobiology/Paleobiology%20segues%27/Cells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STRUCTURE AN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ells : Up Close and Pers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5FD-407F-453E-974A-92C2926187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&amp; Animal Cell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natomy of the Animal Ce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523880"/>
            <a:ext cx="396252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38098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cells/plantcel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natomy of the Plant Cell"/>
          <p:cNvPicPr/>
          <p:nvPr/>
        </p:nvPicPr>
        <p:blipFill>
          <a:blip r:embed="rId3"/>
          <a:stretch/>
        </p:blipFill>
        <p:spPr>
          <a:xfrm>
            <a:off x="76320" y="1523880"/>
            <a:ext cx="4800600" cy="392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5562720"/>
            <a:ext cx="2133720" cy="53316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Cell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86400"/>
            <a:ext cx="2361960" cy="533520"/>
          </a:xfrm>
          <a:custGeom>
            <a:avLst/>
            <a:gdLst>
              <a:gd name="textAreaLeft" fmla="*/ 34560 w 2361960"/>
              <a:gd name="textAreaRight" fmla="*/ 2327400 w 2361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5576" h="21600">
                <a:moveTo>
                  <a:pt x="0" y="0"/>
                </a:moveTo>
                <a:lnTo>
                  <a:pt x="95576" y="0"/>
                </a:lnTo>
                <a:lnTo>
                  <a:pt x="95576" y="21600"/>
                </a:lnTo>
                <a:lnTo>
                  <a:pt x="0" y="21600"/>
                </a:lnTo>
                <a:close/>
              </a:path>
              <a:path fill="lightenLess" w="95576" h="21600">
                <a:moveTo>
                  <a:pt x="0" y="0"/>
                </a:moveTo>
                <a:lnTo>
                  <a:pt x="95576" y="0"/>
                </a:lnTo>
                <a:lnTo>
                  <a:pt x="94176" y="1400"/>
                </a:lnTo>
                <a:lnTo>
                  <a:pt x="1400" y="1400"/>
                </a:lnTo>
                <a:close/>
              </a:path>
              <a:path fill="darken" w="95576" h="21600">
                <a:moveTo>
                  <a:pt x="95576" y="0"/>
                </a:moveTo>
                <a:lnTo>
                  <a:pt x="95576" y="21600"/>
                </a:lnTo>
                <a:lnTo>
                  <a:pt x="94176" y="20200"/>
                </a:lnTo>
                <a:lnTo>
                  <a:pt x="94176" y="1400"/>
                </a:lnTo>
                <a:close/>
              </a:path>
              <a:path fill="darkenLess" w="95576" h="21600">
                <a:moveTo>
                  <a:pt x="95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76" y="20200"/>
                </a:lnTo>
                <a:close/>
              </a:path>
              <a:path fill="lighten" w="95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Cell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BB6-7B07-4CA5-9D8C-BC599483FA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Organel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162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ains chromosomes for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rols cell’s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brain”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side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und either in cytoplasm or on E.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tes for protei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080" y="16002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733920"/>
            <a:ext cx="1074600" cy="133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1066320" y="24379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18960" y="16002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761760" y="4191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EAB-AC87-4773-998F-BE444E6BF5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Organell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powerhouse”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te for cell respiration (breaking 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lucose for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plasmic Reticulum (E.R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nsportation of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smooth” or “rough”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ackaging, modifying, shipping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19320"/>
            <a:ext cx="1371600" cy="12207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74320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419720"/>
            <a:ext cx="1371600" cy="111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121896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520" y="32767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142640" y="4572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D38-43A8-4012-ADD9-42B76CF7F7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Organell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ys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ain digestive enzy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suicide sa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cu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bags” containing H2O and dissolv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terials (solutes) 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la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tes for photosynthesi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2 + H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ucose (s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1171440" cy="90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666880"/>
            <a:ext cx="1295280" cy="857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88596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990720" y="13712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85440" y="15238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14400" y="30481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142640" y="4419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D83-3621-4C72-A6F0-553A03CF2C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1676160" cy="1327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erythrocytes.jpg (25479 bytes)"/>
          <p:cNvPicPr/>
          <p:nvPr/>
        </p:nvPicPr>
        <p:blipFill>
          <a:blip r:embed="rId3"/>
          <a:stretch/>
        </p:blipFill>
        <p:spPr>
          <a:xfrm>
            <a:off x="4414680" y="15238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mooth muscle.gif (57087 bytes)"/>
          <p:cNvPicPr/>
          <p:nvPr/>
        </p:nvPicPr>
        <p:blipFill>
          <a:blip r:embed="rId4"/>
          <a:stretch/>
        </p:blipFill>
        <p:spPr>
          <a:xfrm>
            <a:off x="6477120" y="1523880"/>
            <a:ext cx="1981080" cy="134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70120" y="1523880"/>
            <a:ext cx="1282680" cy="129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3962520"/>
            <a:ext cx="1628640" cy="129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8320" y="3962520"/>
            <a:ext cx="1523880" cy="117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962520"/>
            <a:ext cx="1676160" cy="124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480" y="3962520"/>
            <a:ext cx="1524240" cy="1423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rm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743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2819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ek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lea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5105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 cells w/ st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4BA-DD5C-4A74-8BD9-23FC284EE3E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 What These Ar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81280" y="3657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76520" y="38098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1676520" y="38862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6019920" y="38098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6" action="ppaction://hlinksldjump"/>
          </p:cNvPr>
          <p:cNvSpPr/>
          <p:nvPr/>
        </p:nvSpPr>
        <p:spPr>
          <a:xfrm>
            <a:off x="3657600" y="5638680"/>
            <a:ext cx="1600200" cy="60984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6657" h="21600">
                <a:moveTo>
                  <a:pt x="0" y="0"/>
                </a:moveTo>
                <a:lnTo>
                  <a:pt x="56657" y="0"/>
                </a:lnTo>
                <a:lnTo>
                  <a:pt x="56657" y="21600"/>
                </a:lnTo>
                <a:lnTo>
                  <a:pt x="0" y="21600"/>
                </a:lnTo>
                <a:close/>
              </a:path>
              <a:path fill="lightenLess" w="56657" h="21600">
                <a:moveTo>
                  <a:pt x="0" y="0"/>
                </a:moveTo>
                <a:lnTo>
                  <a:pt x="56657" y="0"/>
                </a:lnTo>
                <a:lnTo>
                  <a:pt x="55257" y="1400"/>
                </a:lnTo>
                <a:lnTo>
                  <a:pt x="1400" y="1400"/>
                </a:lnTo>
                <a:close/>
              </a:path>
              <a:path fill="darken" w="56657" h="21600">
                <a:moveTo>
                  <a:pt x="56657" y="0"/>
                </a:moveTo>
                <a:lnTo>
                  <a:pt x="56657" y="21600"/>
                </a:lnTo>
                <a:lnTo>
                  <a:pt x="55257" y="20200"/>
                </a:lnTo>
                <a:lnTo>
                  <a:pt x="55257" y="1400"/>
                </a:lnTo>
                <a:close/>
              </a:path>
              <a:path fill="darkenLess" w="56657" h="21600">
                <a:moveTo>
                  <a:pt x="56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7" y="20200"/>
                </a:lnTo>
                <a:close/>
              </a:path>
              <a:path fill="lighten" w="56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6400800" y="56386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2670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C4B-972E-42C4-868E-97A3D33CF7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is is a mitochondria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1447920" y="33526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5105520" y="33526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502920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579132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782-CB5B-4F02-A5ED-277FCB188AF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is a Chloroplast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1371600" y="32767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5029200" y="32767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57200" y="304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1C4-2087-4244-97E5-7DC46F55A0E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is a Nucleus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1905120" y="32767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4952880" y="32767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EA8-4D4F-41F3-8571-A925C1CF93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5638680"/>
            <a:ext cx="585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ick here to start present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55627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6324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is has been an EJ.McM. Pres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4EC-2525-4C89-985C-73982D8C9B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T SCIENTIS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T STUDIE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560" y="1752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euwenho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the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ed at cork and named “ce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all animals were ma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817560" cy="99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04812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95680"/>
            <a:ext cx="85104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9C7-E295-4349-8F6A-94BEAD17FB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95560" y="355752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6880" y="3243240"/>
            <a:ext cx="981000" cy="12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71A-9BD3-4E91-ADCE-263D8A8505D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Important Scien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all plants are mad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c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all cells come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existing cells (cells produce m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1149480" cy="1322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971800"/>
            <a:ext cx="1131840" cy="15336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039-15CE-4A23-8C8B-15C7274F36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l living things are made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chleiden and Schw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ells are the structural and functio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ll cells come from pre-exis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rc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EF6-B31A-40FE-B776-5CC418B395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Cell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have the following in comm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ytoplasm (internal fl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ell membrane (not all cells have ce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gulates what enters/exit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enetic material (DNA or RNA) ;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all cells  have a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909-11B4-4A13-86B7-8815228EE6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ell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3505320" y="54100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38" h="21600">
                <a:moveTo>
                  <a:pt x="2256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5138" h="21600">
                <a:moveTo>
                  <a:pt x="2256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5138" h="21600">
                <a:moveTo>
                  <a:pt x="19992" y="8224"/>
                </a:moveTo>
                <a:lnTo>
                  <a:pt x="23857" y="8224"/>
                </a:lnTo>
                <a:lnTo>
                  <a:pt x="23857" y="15221"/>
                </a:lnTo>
                <a:lnTo>
                  <a:pt x="25145" y="15221"/>
                </a:lnTo>
                <a:lnTo>
                  <a:pt x="25145" y="16144"/>
                </a:lnTo>
                <a:lnTo>
                  <a:pt x="19992" y="16144"/>
                </a:lnTo>
                <a:lnTo>
                  <a:pt x="19992" y="15221"/>
                </a:lnTo>
                <a:lnTo>
                  <a:pt x="21281" y="15221"/>
                </a:lnTo>
                <a:lnTo>
                  <a:pt x="21281" y="9129"/>
                </a:lnTo>
                <a:lnTo>
                  <a:pt x="19992" y="9129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14400"/>
            <a:ext cx="8076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are small because of a surface area–to-volume ratio problem.  Cells need a large surface area to allow nutrients and raw materials to enter the cell through the cell membrane and allow wastes to be removed from the cell through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 comes from the fact that as an object gets larger, its volume (the interior of the cell) becomes larger faster than the surface area (cell membrane)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the web site below for a good illustration and a better explanation of this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4DE-3476-4877-8F98-AA45A49AA8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karyotic Cells vs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lls of bacteria and their 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ave genetic mater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no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embrane-bo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ll cells of living things except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ave a nucleus that holds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ave membrane-boun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ch as mitochondria, ER, Golgi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hloroplasts, lysosom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274-377F-4A48-B3C6-D4F071360A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ic &amp; Eukaryotic Cells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2952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22C-0CC4-44D2-9E9C-E7B844247C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Cells Vs. Anim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Cells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last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loropla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ll Wall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rge 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 Cells Do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he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 Cells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ell repro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ll Membran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 cell w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Cells Do Not Have The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67F-DFAE-4863-8DBD-E100652BCC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3:29:10Z</dcterms:created>
  <dc:creator>RCPS</dc:creator>
  <dc:description/>
  <dc:language>en-US</dc:language>
  <cp:lastModifiedBy>RCPS</cp:lastModifiedBy>
  <dcterms:modified xsi:type="dcterms:W3CDTF">2005-10-05T13:07:02Z</dcterms:modified>
  <cp:revision>39</cp:revision>
  <dc:subject/>
  <dc:title>CELL STRUCTURE AND FUNCTION</dc:title>
</cp:coreProperties>
</file>